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2A9-5453-4124-88C7-025E7C6A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CCC-2D02-4A0C-9BC5-5B036E8F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224-B907-4E6B-95F3-D7E761A5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AAE-F101-4A1A-8A1E-991C1095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D73C-F27B-4B03-AB0F-9E6D0469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13D2-8A4D-43D9-B9B2-43C573C0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AEC0-E59C-4093-8715-AEF776A5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8C6E-5742-47F1-8EE0-CE9202E2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24A0-AD88-4B31-97E8-4AA2DAF0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FAE6-B2BC-4402-AF6C-BFF96AE6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149F-FBB1-469A-9C75-8CB1F449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72A-BCCC-4D71-9495-5FA8F8FB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5B66-0CA8-4A1F-8FDA-524B96B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01FB-E0DF-4C53-895F-BFCAD7EF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7AE4-7B9D-41F8-94F9-71F905C2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58C-5937-45A1-9B34-FBA1E6AA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C984-1072-42B8-98FB-56DB16A1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55C-6D18-4CD3-9976-AC64A718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7DB-26E5-4382-9586-D749E27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9A-1431-4ABA-A726-3B436237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0DE-86C8-477A-A694-1F1C8E0F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556-2815-4DB5-A403-8BDB543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8DE-F059-4573-8FC5-99B069B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488-8E23-46A3-927A-340C387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F9CE-FEB9-4FF6-B7BD-66C2AFDCBB16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64E0-C7C6-4F1E-90AB-7B2BD17B49B9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raham E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hoo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Graeme Ede (Getty Images)"/>
          <p:cNvPicPr/>
          <p:nvPr/>
        </p:nvPicPr>
        <p:blipFill>
          <a:blip r:embed="rId1"/>
          <a:stretch/>
        </p:blipFill>
        <p:spPr>
          <a:xfrm>
            <a:off x="2843280" y="189000"/>
            <a:ext cx="303696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ull name: Graeme 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g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B: february 7’196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orn in: southbri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ight: 193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eight: 115 k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Graeme Ede Picture"/>
          <p:cNvPicPr/>
          <p:nvPr/>
        </p:nvPicPr>
        <p:blipFill>
          <a:blip r:embed="rId1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Mo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a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ibling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ere they grew up: southbri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ast Olympics: 2006 199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wards won: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(Training, food, lifestyle…)Eat healthy f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ecause I like shooting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raeme Ede Picture"/>
          <p:cNvPicPr/>
          <p:nvPr/>
        </p:nvPicPr>
        <p:blipFill>
          <a:blip r:embed="rId1"/>
          <a:stretch/>
        </p:blipFill>
        <p:spPr>
          <a:xfrm>
            <a:off x="4649760" y="2543040"/>
            <a:ext cx="403704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4T21:52:10Z</dcterms:modified>
  <cp:revision>7</cp:revision>
  <dc:subject/>
  <dc:title>Name of Athlete</dc:title>
</cp:coreProperties>
</file>